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D17-8315-42DC-AB02-378E9E7B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5CF-C409-4FAB-81C3-7780AE2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618-7DDA-48F8-81C7-693E2A03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9BD-1365-44E7-A5B6-6B3A11AF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956-B0A5-47A3-8772-83C79347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700D-8182-42FD-8503-4878C38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E61-E376-40B9-8A3E-61C8AD46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D72-0DE7-454E-8502-481B563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CA70-9677-4918-82DE-28FCBAF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4D30-5BEF-4902-B18A-FE7D3191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5DC8-F6BA-43B9-8E83-459665B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140-6FE3-4946-A51F-2ED00CA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825-BFF2-4C6E-AA3C-C3898C3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03C-2ADB-4F15-ADF8-FBB6F01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6B94-1143-4F54-8840-86AF3C0D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1055-D150-46FF-A53C-1BF086DA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894-FC9B-4F65-A60F-E30AFA11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98D-4A73-4251-A0F3-EF2DB1A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65B-2540-43E1-B067-83DDA5E1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6B3-04E5-49A1-AF08-8C741D7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B5A-3A3D-4432-BDE4-6CA9E7D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986-648A-4082-B5E9-6FB2315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470-940D-4843-B64B-8CB2838A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14B-FCCA-4EB3-A569-AE35552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4AB5-6FDC-47B0-B94B-571848D484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B5F0-A5CF-4E29-A735-98B3A8612A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тория возникновения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об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Мои рисунки\анимашки\abstrakt_walls\banne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 rot="757800">
            <a:off x="6768360" y="1328760"/>
            <a:ext cx="15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3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286080" y="428616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99"/>
                </a:solidFill>
                <a:latin typeface="Calibri"/>
                <a:ea typeface="Arial"/>
              </a:rPr>
              <a:t>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 rot="20092200">
            <a:off x="1018080" y="2062080"/>
            <a:ext cx="18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9,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 rot="564600">
            <a:off x="6420240" y="3800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0,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714920" y="54291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и учащиеся 6 клас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ксин Руслан, Жеронкин Егор, Плехов Влад, Куликова Яна, Ракина Тать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Рим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2484360" y="189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ревний 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79280" y="1341360"/>
            <a:ext cx="41054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ная система дробей была в Древнем Риме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 - весом. Например, римлянин мог сказать, что он прошел семь унций пути или прочел пять унций книги. При этом, конечно, речь не шла о взвешивании пути или книги. Имелось в виду, что пройдено 7/12 пути или прочтено 5/12 книг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-за того что в двенадцатеричной системе нет дробей со знаменателями 10 или 100, римляне затруднялись делить на 10, 100 и т. д. При делении 1001 асса на 100 один римский математик сначала получил 10 ассов, потом раздробил асе на унции и т. д. Но от остатка он не избавился. Чтобы не иметь дела с такими вычислениями, римляне стали использовать проц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ак слова "на сто" звучали по-латыни "про центум", то сотую часть и стали называть процен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dr"/>
          <p:cNvPicPr/>
          <p:nvPr/>
        </p:nvPicPr>
        <p:blipFill>
          <a:blip r:embed="rId1"/>
          <a:stretch/>
        </p:blipFill>
        <p:spPr>
          <a:xfrm>
            <a:off x="108000" y="476280"/>
            <a:ext cx="4859280" cy="79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Рисунок4"/>
          <p:cNvPicPr/>
          <p:nvPr/>
        </p:nvPicPr>
        <p:blipFill>
          <a:blip r:embed="rId2"/>
          <a:stretch/>
        </p:blipFill>
        <p:spPr>
          <a:xfrm>
            <a:off x="0" y="1557360"/>
            <a:ext cx="4680000" cy="4246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076720" y="260280"/>
            <a:ext cx="3888000" cy="606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реческих сочинениях по математике дробей не встречалось. Греческие ученые считали, что математика должна заниматься только целыми числами. Возиться с дробями они предоставляли купцам, ремесленникам, а также астрономам, землемерам, механикам и другому "черному люду". Но старая пословица гласит: "Гони природу в дверь - она влетит в окно". Поэтому и в строго научные сочинения греков дроби проникали "с заднего хода". Кроме арифметики и геометрии, в греческую науку входила музыка. Музыкой греки называли учение о гармонии. Это учение опиралось на ту часть нашей арифметики, в которой говорится об отношениях и пропорциях. Греки знали: чем длиннее натянутая струна, тем ниже получается звук, который она издает, а короткая струна издает высокий звук. Но у всякого музыкального инструмента не одна, а несколько струн. Для того чтобы все струны при игре звучали "согласно", приятно для слуха, длины звучащих частей их должны быть в определенном отношении. Поэтому учение об отношениях и дробях использовалось в греческой теории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shiva"/>
          <p:cNvPicPr/>
          <p:nvPr/>
        </p:nvPicPr>
        <p:blipFill>
          <a:blip r:embed="rId1"/>
          <a:stretch/>
        </p:blipFill>
        <p:spPr>
          <a:xfrm>
            <a:off x="2484360" y="1125360"/>
            <a:ext cx="378144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2987640" y="333360"/>
            <a:ext cx="273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4360" y="5877000"/>
            <a:ext cx="763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 и не писали дробной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абская письм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71680" y="6143760"/>
            <a:ext cx="8072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ть дроби в точности, как сейчас, стали ара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Documents and Settings\Admin\Рабочий стол\иикто Денис\не удавшийся проект(((\arabskiy_big.jpg"/>
          <p:cNvPicPr/>
          <p:nvPr/>
        </p:nvPicPr>
        <p:blipFill>
          <a:blip r:embed="rId1"/>
          <a:stretch/>
        </p:blipFill>
        <p:spPr>
          <a:xfrm>
            <a:off x="1643040" y="1257480"/>
            <a:ext cx="56293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нашего исследования мы выяснили, что дроби возникли не как результат деления целых чисел. Они возникли в процессе изменения, как определенные части некоторых определенных м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Мои рисунки\анимашки\abstrakt_walls\banne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396720"/>
            <a:ext cx="78692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rticle015_05s"/>
          <p:cNvPicPr/>
          <p:nvPr/>
        </p:nvPicPr>
        <p:blipFill>
          <a:blip r:embed="rId1"/>
          <a:stretch/>
        </p:blipFill>
        <p:spPr>
          <a:xfrm>
            <a:off x="6643800" y="1000080"/>
            <a:ext cx="216036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 rot="339000">
            <a:off x="2700000" y="115560"/>
            <a:ext cx="403236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85840" y="4357800"/>
            <a:ext cx="8569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гиптяне все дроби старались записать как суммы долей, то есть дробей вида 1/n. Например, вместо  8/15 они писали 1/3 + 1/5. Единственным  исключением  была дробь 2/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апирусе Ахмеса есть задач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"Разделить 7  хлебов между 8 людьми". Если резать каждый хлеб на 8 частей,  придется  провести  49 разрезов.  А по-египетски эта задача решалась так. Дробь 7/8 записывали в виде дол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/2 + 1/4 + 1/8. Значит, каждому человеку надо дать полхлеба, четверть хлеба и восьмушку хлеба; поэтому четыре хлеба разрезаем пополам, два хлеба - на 4 части и один хлеб - на 8 долей, после чего каждому даем его ч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1433520" cy="304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252"/>
          <p:cNvPicPr/>
          <p:nvPr/>
        </p:nvPicPr>
        <p:blipFill>
          <a:blip r:embed="rId3"/>
          <a:stretch/>
        </p:blipFill>
        <p:spPr>
          <a:xfrm>
            <a:off x="2714760" y="2857680"/>
            <a:ext cx="2779560" cy="912600"/>
          </a:xfrm>
          <a:prstGeom prst="rect">
            <a:avLst/>
          </a:prstGeom>
          <a:ln w="9360">
            <a:solidFill>
              <a:srgbClr val="63252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Прямоугольник 8"/>
          <p:cNvSpPr/>
          <p:nvPr/>
        </p:nvSpPr>
        <p:spPr>
          <a:xfrm>
            <a:off x="2725560" y="385776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/5           1/23         1/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еегипетский папир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Рисунок2"/>
          <p:cNvPicPr/>
          <p:nvPr/>
        </p:nvPicPr>
        <p:blipFill>
          <a:blip r:embed="rId1"/>
          <a:stretch/>
        </p:blipFill>
        <p:spPr>
          <a:xfrm>
            <a:off x="1143000" y="2000160"/>
            <a:ext cx="671184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268360" y="450864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2960" y="1214280"/>
            <a:ext cx="7848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и некоторые другие дроби встречаются в древнейших дошедших до нас математических текстах, составленных более 5000 лет тому назад, - древнеегипетских папирусах и вавилонских клинописных табли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вилонская табл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вавилонская табличка"/>
          <p:cNvPicPr/>
          <p:nvPr/>
        </p:nvPicPr>
        <p:blipFill>
          <a:blip r:embed="rId1"/>
          <a:stretch/>
        </p:blipFill>
        <p:spPr>
          <a:xfrm>
            <a:off x="1116000" y="1484280"/>
            <a:ext cx="3206880" cy="4321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788000" y="1773360"/>
            <a:ext cx="31687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 египтян, и у вавилонян были специальные обозначения для дробей 1/3 и 2/3, не совпадающие с обозначениями для других дробей. Египтяне все дроби старались записать как суммы долей, т.е. дробей вида 1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Единственным исключением была дробь 2/3. например, вместо 8/15 они писали 1/3+1/5. Иногда это бывало удоб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атематический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апирус Ринд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писанный египетским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исцом Ахмес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papirus_rind1"/>
          <p:cNvPicPr/>
          <p:nvPr/>
        </p:nvPicPr>
        <p:blipFill>
          <a:blip r:embed="rId1"/>
          <a:stretch/>
        </p:blipFill>
        <p:spPr>
          <a:xfrm>
            <a:off x="539640" y="1557360"/>
            <a:ext cx="4897440" cy="2739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39640" y="4508640"/>
            <a:ext cx="511344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использовались дроби в Древнем Египте, позволила нам узнать расшифровка папирусного свитка, найденного в Луксоре в 1858 г. Генрихом Риндом. Сейчас этот свиток находится в Британском музее в Лондоне. Папирус Ринда был написан писцом по имени Ахмес примерно в 1650 г. до нашей эры. Это математическая рукопись, составленная учителем для своих учеников, готовившихся стать придворными пис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40360" y="2060640"/>
            <a:ext cx="287964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апирусе есть задача: разделить семь хлебов между восемью людьми. Если резать каждый хлеб на 8 частей, придётся сделать 49 разрезов. А по–египетски эта задача решалась так. Дробь 7/8 записывали в виде долей: ½+1/4+1/8. Теперь ясно, что надо 4 хлеба разрезать пополам, 2 хлеба на 4 части и только один хлеб – на 8 частей (всего 17 разре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вило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вавилон"/>
          <p:cNvPicPr/>
          <p:nvPr/>
        </p:nvPicPr>
        <p:blipFill>
          <a:blip r:embed="rId1"/>
          <a:stretch/>
        </p:blipFill>
        <p:spPr>
          <a:xfrm>
            <a:off x="250920" y="907920"/>
            <a:ext cx="3589200" cy="482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140360" y="907920"/>
            <a:ext cx="4751280" cy="54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десятеричными дробями, унаследованными от Вавилона, пользовались греческие и арабские математики и астрономы. Система счисления в Вавилоне была шестидесятиричной – каждая единица следующего разряда была в 60 раз больше предыдущей. Мы и сейчас пользуемся такими дробями в обозначениях времени и величин углов. Вместо слов «шестидесятые доли», «три тысячи шестисотые доли» говорили короче: «первые малые доли», «вторые малые доли». От этого и произошли наши слова «минута» (по латыни «меньшая») и «секунда» (по латыни «вторая»). Так что вавилонский способ обозначения дробей сохранил своё значение до сих пор. Но было неудобно работать над натуральными числами, записанными в десятичной системе, и дробями, записанными в шестидесятеричной. А работать с обыкновенными дробями было совсем уж плохо - попробуйте, например, сложить или умножить дроб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лландский математик и инженер Симон Стев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07"/>
          <p:cNvPicPr/>
          <p:nvPr/>
        </p:nvPicPr>
        <p:blipFill>
          <a:blip r:embed="rId1"/>
          <a:stretch/>
        </p:blipFill>
        <p:spPr>
          <a:xfrm>
            <a:off x="3059280" y="1773360"/>
            <a:ext cx="2757240" cy="36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187280" y="5661000"/>
            <a:ext cx="7129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голландский математик Симон Стевин предложил в 1585 году перейти к десятичным дробям. Сначала их писали весьма сложно, но постепенно перешли к современной запис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ЭВМ"/>
          <p:cNvPicPr/>
          <p:nvPr/>
        </p:nvPicPr>
        <p:blipFill>
          <a:blip r:embed="rId1"/>
          <a:stretch/>
        </p:blipFill>
        <p:spPr>
          <a:xfrm>
            <a:off x="395280" y="1268280"/>
            <a:ext cx="3960720" cy="3117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68360" y="4797360"/>
            <a:ext cx="82090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 в ЭВМ используют двоичные дроби. В двоичной системе счисления единица каждого следующего разряда вдвое больше единицы предыдущего разряда. Это позволяет при записи чисел пользоваться лишь двумя цифрами: 0 и 1. Например, запись 100101 означает число 1*25+0*24+0*23+1*22+0*2+1, т.е. число 37. Хотя и получается более длинная запись, но нужно всего две циф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Admin\Рабочий стол\иикто Денис\не удавшийся проект(((\ix.jpeg"/>
          <p:cNvPicPr/>
          <p:nvPr/>
        </p:nvPicPr>
        <p:blipFill>
          <a:blip r:embed="rId2"/>
          <a:stretch/>
        </p:blipFill>
        <p:spPr>
          <a:xfrm>
            <a:off x="4643280" y="1285920"/>
            <a:ext cx="4214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3"/>
          <p:cNvPicPr/>
          <p:nvPr/>
        </p:nvPicPr>
        <p:blipFill>
          <a:blip r:embed="rId1"/>
          <a:stretch/>
        </p:blipFill>
        <p:spPr>
          <a:xfrm>
            <a:off x="5651640" y="1413000"/>
            <a:ext cx="2914560" cy="3600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000160" y="1071720"/>
            <a:ext cx="54007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1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Древняя Русь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1643040"/>
            <a:ext cx="31035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пытно, что двоичными дробями пользовались, по сути дела, в Древней Руси, где были такие дроби, как половина, четь, пол-чети, пол-пол-че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11:09Z</dcterms:created>
  <dc:creator>Югова</dc:creator>
  <dc:description/>
  <dc:language>en-US</dc:language>
  <cp:lastModifiedBy>Admin</cp:lastModifiedBy>
  <dcterms:modified xsi:type="dcterms:W3CDTF">2011-05-18T10:14:03Z</dcterms:modified>
  <cp:revision>15</cp:revision>
  <dc:subject/>
  <dc:title>Слайд 1</dc:title>
</cp:coreProperties>
</file>